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0B54-1171-4860-BECA-70998D684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65BA-83C6-420A-A221-539B561A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A191-0D78-45BB-B66A-F9AB3468C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870A-1D6A-4E68-A85A-6C5E35496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5C76-3FAE-430D-BDE0-0DF2B3E8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D45C-384E-4757-A765-8FE11714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5E1C-1879-4CD8-97C9-F26EFECA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F48C-9A63-4351-B94F-64B0F9A6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5698-589D-4E21-9559-2CD7FE50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315E-BE58-4D6B-B5F9-E224E293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8771-0111-48AA-B634-3FCF6642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2ED0-9A68-41E3-ABEB-D56307A0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9EAB-3B81-4AAE-ABAA-F1E50F342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11280" y="981000"/>
            <a:ext cx="4438440" cy="16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e House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4284720" y="1700280"/>
            <a:ext cx="4432320" cy="46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485640"/>
            <a:ext cx="8208720" cy="5534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667240" y="5532480"/>
            <a:ext cx="3827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663300"/>
                </a:solidFill>
                <a:latin typeface="Bauhaus 93"/>
              </a:rPr>
              <a:t>bedroo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00" y="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04760" y="752400"/>
            <a:ext cx="7134480" cy="5353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2720" y="0"/>
            <a:ext cx="80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56000" y="585144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9999"/>
                </a:solidFill>
                <a:latin typeface="Arial Black"/>
              </a:rPr>
              <a:t>Kitch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47600" y="762120"/>
            <a:ext cx="7048800" cy="5333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4200" y="-9828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45080" y="5851440"/>
            <a:ext cx="377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9900"/>
                </a:solidFill>
                <a:latin typeface="Arial"/>
              </a:rPr>
              <a:t>Bathroo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6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6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7056360" cy="5645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0920" y="692280"/>
            <a:ext cx="10810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44720" y="5943600"/>
            <a:ext cx="41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3300"/>
                </a:solidFill>
                <a:latin typeface="Arial"/>
              </a:rPr>
              <a:t>Living roo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332000" y="404640"/>
            <a:ext cx="7134120" cy="5353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52360" y="16200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42880" y="5759280"/>
            <a:ext cx="511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9900"/>
                </a:solidFill>
                <a:latin typeface="Arial"/>
              </a:rPr>
              <a:t>Dining roo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692360" y="266760"/>
            <a:ext cx="6119640" cy="4591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96720" y="54936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660033"/>
                </a:solidFill>
                <a:latin typeface="Arial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37080" y="5157720"/>
            <a:ext cx="228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660033"/>
                </a:solidFill>
                <a:latin typeface="Arial"/>
              </a:rPr>
              <a:t>Hal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09:56:49Z</dcterms:created>
  <dc:creator>I.E.S. FEDERICO GARCIA LORCA</dc:creator>
  <dc:description/>
  <dc:language>en-US</dc:language>
  <cp:lastModifiedBy>I.E.S. FEDERICO GARCIA LORCA</cp:lastModifiedBy>
  <dcterms:modified xsi:type="dcterms:W3CDTF">2009-04-22T10:22:27Z</dcterms:modified>
  <cp:revision>2</cp:revision>
  <dc:subject/>
  <dc:title>Diapositiva 1</dc:title>
</cp:coreProperties>
</file>